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EEE83-FB40-4CF9-A076-975472E24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BF9CE-76B2-43D6-A75D-7128A4DA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FE347-2C34-4B98-BBE5-90B2202F7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2583E-DE55-4494-9188-6D2335DE8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C0488-F4C4-4DA9-85FE-1BF6A2D93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B53E0-5B45-4BFF-B695-042BE2526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5508F-B59A-43DD-BA78-8C0ABC08C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82E46-A719-4A87-B0CE-A3142C5F1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71B60-0D77-4E4F-B6A0-551DDD1BB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144C-7D34-49B8-9F6F-10B831649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48855-FD83-40A1-90E8-CB963F622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8399-7FBE-4E74-89BF-C726456A0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EF93-70ED-4CEF-8901-8A8EC61348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0602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fade" transition="in">
                                      <p:cBhvr additive="repl">
                                        <p:cTn id="12" dur="20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6">
                                  <p:stCondLst>
                                    <p:cond delay="0"/>
                                  </p:stCondLst>
                                  <p:childTnLst>
                                    <p:animScale>
                                      <p:cBhvr>
                                        <p:cTn id="16" dur="20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grayscl/>
          </a:blip>
          <a:stretch/>
        </p:blipFill>
        <p:spPr>
          <a:xfrm>
            <a:off x="5148360" y="148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1:02:49Z</dcterms:modified>
  <cp:revision>43</cp:revision>
  <dc:subject/>
  <dc:title>SALARIUL</dc:title>
</cp:coreProperties>
</file>